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9.jpeg" ContentType="image/jpeg"/>
  <Override PartName="/ppt/media/image25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32.gif" ContentType="image/gif"/>
  <Override PartName="/ppt/media/image19.jpeg" ContentType="image/jpeg"/>
  <Override PartName="/ppt/media/image13.jpeg" ContentType="image/jpeg"/>
  <Override PartName="/ppt/media/image18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82A-F66D-49C0-AADB-537DA3B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055-EAE1-4C4E-A937-6465C9D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F83-B77B-4188-805F-4F761C28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2B2-232E-42C4-B5A3-D624BDBC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7A6-EA04-4D41-B3C9-D9FEB288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837-2B15-4F0E-8EF0-E8B0F1B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E13-3050-4C57-A478-0358ECCB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49F-F80C-4A5F-B395-1FCC8C5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0F5-D5A8-41E7-967E-EEADDCE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94F-80F2-4437-899A-F1A5AAD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983-9F5D-4AC3-9370-B32A1C1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79B-F9F1-4584-83EF-BBC25B2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F39-AE99-4A6A-9E41-A1F67547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Новости города и района &quot; Город Палласовка.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90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11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0028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Что без меня предмет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Лишь назва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 я приду - все в действие прид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Pictures of action verbs"/>
          <p:cNvPicPr/>
          <p:nvPr/>
        </p:nvPicPr>
        <p:blipFill>
          <a:blip r:embed="rId2"/>
          <a:stretch/>
        </p:blipFill>
        <p:spPr>
          <a:xfrm>
            <a:off x="755640" y="4581360"/>
            <a:ext cx="27367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Собери цветок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Феи. Вышивка гладью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250920" y="3645000"/>
            <a:ext cx="2306520" cy="298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0" y="357336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лагательное 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1280" y="4581360"/>
            <a:ext cx="3333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ществительное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92720" y="5445000"/>
            <a:ext cx="1368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628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, собирать, мудрый, великий, учить, могучий, буква, умный, добрый, словарь, запоминать, книга, ручка, счастливый, рисовать, чит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Вопросы и ответы - Избавляемся от прыщей за день!"/>
          <p:cNvPicPr/>
          <p:nvPr/>
        </p:nvPicPr>
        <p:blipFill>
          <a:blip r:embed="rId3"/>
          <a:stretch/>
        </p:blipFill>
        <p:spPr>
          <a:xfrm>
            <a:off x="7524720" y="4724280"/>
            <a:ext cx="12938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33336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для болельщиков "Антонимы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70028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Я- антоним слова “зной”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Я в реке в тени густой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И в бутылке лимонада, 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А зовут меня 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62064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Я антоним слова “лето”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 шубу снежную одета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Хоть люблю мороз сама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Потому что я -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ы приглашены: БЕСПЛАТНОЕ занятие по английскому для детей. - Сообщество &quot;Наш досуг&quot; / Досуг с детьми"/>
          <p:cNvPicPr/>
          <p:nvPr/>
        </p:nvPicPr>
        <p:blipFill>
          <a:blip r:embed="rId2"/>
          <a:stretch/>
        </p:blipFill>
        <p:spPr>
          <a:xfrm>
            <a:off x="5292720" y="3645000"/>
            <a:ext cx="33624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620640"/>
            <a:ext cx="80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Я – антоним слову “смех”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е от радости, утех, - 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Я бываю по неволе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т несчастья и от боли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т обиды, неудач.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Догадались, это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 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op 30 Smileys Picpulp"/>
          <p:cNvPicPr/>
          <p:nvPr/>
        </p:nvPicPr>
        <p:blipFill>
          <a:blip r:embed="rId2"/>
          <a:stretch/>
        </p:blipFill>
        <p:spPr>
          <a:xfrm>
            <a:off x="468360" y="4581360"/>
            <a:ext cx="208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62064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Я – антоним шума, стука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Без меня вам ночью мука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Я для отдыха, для сна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Называю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WAP.MMS.MTS.RU"/>
          <p:cNvPicPr/>
          <p:nvPr/>
        </p:nvPicPr>
        <p:blipFill>
          <a:blip r:embed="rId2"/>
          <a:stretch/>
        </p:blipFill>
        <p:spPr>
          <a:xfrm>
            <a:off x="395280" y="3500280"/>
            <a:ext cx="2367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Назови одним слово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341360"/>
            <a:ext cx="74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Как называется игра на льду, в процессе которой игроки бегают на коньках за шайб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рога, обсаженная деревьями с обе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Место, где продают билеты в кино, театр, цир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еловек, который совершает поездку на любом виде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рога, покрытая асфальтом, соединяет населенные пун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Комната в школе, в которой учатся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55640" y="333360"/>
            <a:ext cx="748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укцион послови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700280"/>
            <a:ext cx="777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ЛЮБИШЬ КАТАТЬСЯ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ДАРЁННОМУ КОНЮ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СЕМЬ РАЗ 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ЖИЗНЬ ПРОЖИТЬ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УЧЕНЬЕ СВЕТ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ДЕЛУ ВРЕМЯ ……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@дневники - Who Knows Ajed?"/>
          <p:cNvPicPr/>
          <p:nvPr/>
        </p:nvPicPr>
        <p:blipFill>
          <a:blip r:embed="rId2"/>
          <a:stretch/>
        </p:blipFill>
        <p:spPr>
          <a:xfrm>
            <a:off x="5796000" y="4292640"/>
            <a:ext cx="26636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33336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для болельщиков "Пословицы в картинках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8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8208720" cy="331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50920" y="537372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гадайся, о какой пословице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36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команда "Словар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628640"/>
            <a:ext cx="80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от команда 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«Словари»,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се мы вместе собрались.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Мы покажем чудеса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Храбрости и че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Dict А-Я для iPhone (сборник русских словарей: толковые, орфографический, синонимы, заимствованные иностранные слова)"/>
          <p:cNvPicPr/>
          <p:nvPr/>
        </p:nvPicPr>
        <p:blipFill>
          <a:blip r:embed="rId2"/>
          <a:stretch/>
        </p:blipFill>
        <p:spPr>
          <a:xfrm>
            <a:off x="2700360" y="4653000"/>
            <a:ext cx="35290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Веселые картин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83272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Веселые картин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697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Веселые картин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4969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Сколько букв и сколько звуков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060640"/>
            <a:ext cx="532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ьюга -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поём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съехал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Снежная зима - анимация на телефон 1085794"/>
          <p:cNvPicPr/>
          <p:nvPr/>
        </p:nvPicPr>
        <p:blipFill>
          <a:blip r:embed="rId2"/>
          <a:stretch/>
        </p:blipFill>
        <p:spPr>
          <a:xfrm>
            <a:off x="4284720" y="1413000"/>
            <a:ext cx="1800000" cy="240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Детские раскраски - детские раскраски из разных мультфильмов и сказок. ЧАСТЬ 4 &quot; Развитие детей. Оригами, раскраски, развивающие"/>
          <p:cNvPicPr/>
          <p:nvPr/>
        </p:nvPicPr>
        <p:blipFill>
          <a:blip r:embed="rId3"/>
          <a:stretch/>
        </p:blipFill>
        <p:spPr>
          <a:xfrm>
            <a:off x="6659640" y="2205000"/>
            <a:ext cx="2112840" cy="234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ЧЕБУРАШКА-ЛЫЖНИК - Всё о Чебурашке и крокодиле Гене (сборник)"/>
          <p:cNvPicPr/>
          <p:nvPr/>
        </p:nvPicPr>
        <p:blipFill>
          <a:blip r:embed="rId4"/>
          <a:stretch/>
        </p:blipFill>
        <p:spPr>
          <a:xfrm>
            <a:off x="3851280" y="4653000"/>
            <a:ext cx="33130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5280" y="333360"/>
            <a:ext cx="84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со зрителями "Словесный конструктор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3166920"/>
            <a:ext cx="55753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ММАТИКА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88000" y="2276280"/>
            <a:ext cx="792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59640" y="3429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4292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486900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0720" y="191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321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4797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5950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63640" y="333360"/>
            <a:ext cx="59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иц-турни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" y="1479960"/>
            <a:ext cx="698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ая часть слова самая главн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колько гласных букв в русском язы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колько гласных звуков в русской ре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огда пишется разделительный мягкий зн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огда пишется разделительный твердый зн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ие слова называются синоним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ие слова называют антоним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ие слова в русск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зываются однокоре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ое слово состоит из 3 слог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 указывает на 33 буквы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Funny Question Mark Clip Art"/>
          <p:cNvPicPr/>
          <p:nvPr/>
        </p:nvPicPr>
        <p:blipFill>
          <a:blip r:embed="rId2"/>
          <a:stretch/>
        </p:blipFill>
        <p:spPr>
          <a:xfrm>
            <a:off x="6012000" y="3500280"/>
            <a:ext cx="2666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Поделки, делаем самостоятельно - Поделки, делаем самостоятельно"/>
          <p:cNvPicPr/>
          <p:nvPr/>
        </p:nvPicPr>
        <p:blipFill>
          <a:blip r:embed="rId3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336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9400" y="625320"/>
            <a:ext cx="86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Физминутка «В темном лесу есть изб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темном лесу есть избушка. (Дети шагают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тоит задом наперед. (Дети поворачиваются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той избушке есть старушка. (Грозят пальцем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абушка Яга живет. (Грозят пальцем другой руки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ос крючком, (Показывают пальчиком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Глаза большие, (Показывают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ловно угольки горят. (Покачивают головой.)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х, сердитая какая! (Бег на месте.)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ыбом волосы стоят. (Руки вверх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55640" y="33336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со зрителями  "Скажи-комплимент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Ответы@Mail.Ru: Как вы себе льстите?"/>
          <p:cNvPicPr/>
          <p:nvPr/>
        </p:nvPicPr>
        <p:blipFill>
          <a:blip r:embed="rId2"/>
          <a:stretch/>
        </p:blipFill>
        <p:spPr>
          <a:xfrm>
            <a:off x="1763640" y="1628640"/>
            <a:ext cx="5715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33336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"Помоги собрать госте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480" y="1481760"/>
            <a:ext cx="87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н – ко – ди – т  - па    Ба – ло – юн – 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ро- ко- шим – щей – пан   Зе - бес- го - смерт – ле – 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ме- мур – й - раф    Го – браз – ры – на - ны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Музыкальные материалы для развития ребенка (Страница 282) MP3SORT.BIZ"/>
          <p:cNvPicPr/>
          <p:nvPr/>
        </p:nvPicPr>
        <p:blipFill>
          <a:blip r:embed="rId2"/>
          <a:stretch/>
        </p:blipFill>
        <p:spPr>
          <a:xfrm>
            <a:off x="4572000" y="3645000"/>
            <a:ext cx="2438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33336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команда "Алфавит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628640"/>
            <a:ext cx="80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Из букв команда состоит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И всё нам интересно.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азванье наше – 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«Алфавит»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ражаться будем чес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к заработать деньги дома - Диета для каждого"/>
          <p:cNvPicPr/>
          <p:nvPr/>
        </p:nvPicPr>
        <p:blipFill>
          <a:blip r:embed="rId2"/>
          <a:stretch/>
        </p:blipFill>
        <p:spPr>
          <a:xfrm>
            <a:off x="0" y="3941640"/>
            <a:ext cx="2916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708280"/>
            <a:ext cx="82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1989000"/>
            <a:ext cx="820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дравляем команду победителе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Смайлики, картинка 21587"/>
          <p:cNvPicPr/>
          <p:nvPr/>
        </p:nvPicPr>
        <p:blipFill>
          <a:blip r:embed="rId2"/>
          <a:stretch/>
        </p:blipFill>
        <p:spPr>
          <a:xfrm>
            <a:off x="2916360" y="2781360"/>
            <a:ext cx="5448240" cy="35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741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33336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 команда "Предложе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628640"/>
            <a:ext cx="80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Мы команда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«Предлож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ам сопутствует везень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усть борьба кипит сильне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И наша дружба крепнет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Планирование 8 класс по русскому языку 4 часа в неделю - Скачать программы"/>
          <p:cNvPicPr/>
          <p:nvPr/>
        </p:nvPicPr>
        <p:blipFill>
          <a:blip r:embed="rId2"/>
          <a:stretch/>
        </p:blipFill>
        <p:spPr>
          <a:xfrm>
            <a:off x="3132000" y="4292640"/>
            <a:ext cx="2519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33336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77336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Мы играем сценки о русском язы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Всем покажем как велик и могуч наш русский язы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вн смешные сценки про школу - самый ржачный сайт"/>
          <p:cNvPicPr/>
          <p:nvPr/>
        </p:nvPicPr>
        <p:blipFill>
          <a:blip r:embed="rId2"/>
          <a:stretch/>
        </p:blipFill>
        <p:spPr>
          <a:xfrm>
            <a:off x="468360" y="3814920"/>
            <a:ext cx="36720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03280" y="33336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6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Конкурс «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539640" y="2421000"/>
            <a:ext cx="82090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 слова  со  слогом  «р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мама\Лето\4b83fdd494.png"/>
          <p:cNvPicPr/>
          <p:nvPr/>
        </p:nvPicPr>
        <p:blipFill>
          <a:blip r:embed="rId2"/>
          <a:stretch/>
        </p:blipFill>
        <p:spPr>
          <a:xfrm>
            <a:off x="2484360" y="4076640"/>
            <a:ext cx="22860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40464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Конкурс «Слово-Змей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539640" y="836640"/>
            <a:ext cx="82090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 на доске слова в таком порядке, чтобы второе слово начиналось с последней буквы первого, например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рес – салю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т…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Рабочая программа по русскому языку 6 класс ладыженская 5 часов в неделю - Новинки из мира книг"/>
          <p:cNvPicPr/>
          <p:nvPr/>
        </p:nvPicPr>
        <p:blipFill>
          <a:blip r:embed="rId2"/>
          <a:stretch/>
        </p:blipFill>
        <p:spPr>
          <a:xfrm>
            <a:off x="250920" y="42926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11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70028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пределяю я предме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ни со мной весьма примет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Я украшаю вашу реч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Меня вам надо знать, береч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Имя прилагательное - Картинка 12322/4"/>
          <p:cNvPicPr/>
          <p:nvPr/>
        </p:nvPicPr>
        <p:blipFill>
          <a:blip r:embed="rId2"/>
          <a:stretch/>
        </p:blipFill>
        <p:spPr>
          <a:xfrm>
            <a:off x="6156360" y="4581360"/>
            <a:ext cx="26226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700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Давно живу я в мире эт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Даю названия предмет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Международный день детской книги отмечается ежегодно в день рождения - 17 Декабря 2013 - Blog - Rumetrika"/>
          <p:cNvPicPr/>
          <p:nvPr/>
        </p:nvPicPr>
        <p:blipFill>
          <a:blip r:embed="rId2"/>
          <a:stretch/>
        </p:blipFill>
        <p:spPr>
          <a:xfrm>
            <a:off x="4859280" y="3860640"/>
            <a:ext cx="32371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07:00:25Z</dcterms:created>
  <dc:creator>корпорация центр</dc:creator>
  <dc:description/>
  <dc:language>en-US</dc:language>
  <cp:lastModifiedBy>корпорация центр</cp:lastModifiedBy>
  <dcterms:modified xsi:type="dcterms:W3CDTF">2014-11-16T06:11:54Z</dcterms:modified>
  <cp:revision>6</cp:revision>
  <dc:subject/>
  <dc:title>Слайд 1</dc:title>
</cp:coreProperties>
</file>